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E6E6-8FDA-4C7B-841E-B86B2A6F3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7998-F369-4636-9905-3116E5C92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6E83-6808-49DF-A015-8997B689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0CAE-E6EA-410E-A954-5F73B8785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C529-4C63-460B-BEFA-7DDA2670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BF97-39B6-4749-8CD2-6F0FC004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DFEC-94F7-4659-A825-84097E035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115 minutes, split up by l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935A-816A-4262-B83B-66EFC199A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BFD2-0D05-404D-A921-7952250FE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3C3D-0950-4205-BD03-DD8B753AE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E96-D70A-4793-B6D2-8D529D6F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D4B-C51B-4CBE-BC94-C55440B4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9DE-B4B6-4357-AAB5-CCC8E4F3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5DB-366B-453A-BF42-B86184EE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5A62-4831-4D1F-A922-5E1723B8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881C-FC2F-491B-9EA7-842406EC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9580-9593-48A6-A4A8-0B3AEB7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7D27-575C-4DE5-A025-EFB44EEA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382E-8FC5-4DA0-85FF-A0018FC6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C297-CE35-478D-858F-212A10F5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838D-7266-4129-AE5E-E359B0E5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AF0-F101-43B1-9C4A-31EB5175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307C-3553-45D6-A18C-0FC3C939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6159-B6F1-4B58-BEC5-B275EADD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1CC-6862-4B75-8618-8E7C92B9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499F-6CFF-460D-9E69-406035DF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0FB7-8139-48B2-9DA3-B0B66D2B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F47-CE80-4C73-8143-ABB6666F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F05-69EF-460D-9C76-7A0F319B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641-5E72-4B6E-8280-FB75E8C7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583-15CD-48FD-B4F1-0E7FC678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700-06A9-4CCA-936A-541E129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ABE-984B-4C44-B2D1-83B2D7D6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BCF-89DD-4AB1-B150-77A1CDA7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EB42-D077-4284-B1FE-8A9435FE5F8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8841-8CBB-4D38-A946-2D2B9AFD1DC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Modelling in a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insert exit card graphic here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insert 11U task from BLM QR.3.1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357120" y="1571760"/>
            <a:ext cx="8358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       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s con’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m a group with others working on the sam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task by selecting one of the questions and then prompt each other using the follow-up questions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ch the parallel task to a big idea and then find all the expectations that are addressed by the two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Parallel Task </a:t>
            </a:r>
            <a:br>
              <a:rPr sz="4400"/>
            </a:b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4 U 2 do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one struggle from yesterday and the corresponding expectations that you would like to consider fur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 like-minded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one parallel task as well as the follow-u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lgebra Ti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develop the sequence for this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Revisiting l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change parallel tasks for feedback, using the prob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357120" y="1571760"/>
            <a:ext cx="8358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	</a:t>
            </a: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       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s.yearley</cp:lastModifiedBy>
  <dcterms:modified xsi:type="dcterms:W3CDTF">2009-07-19T19:04:17Z</dcterms:modified>
  <cp:revision>108</cp:revision>
  <dc:subject/>
  <dc:title>Slide 1</dc:title>
</cp:coreProperties>
</file>